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CB5DD-31E4-42AC-8424-66651B10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B7067-A342-4AC9-9F40-242AFBC9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60B7F-BDDC-4035-8582-7EA4236C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6FCCE-4461-40EE-BBB4-1483F7DC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A35F-DD2A-4E3E-96EF-A7ED68A5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7AE1-4245-4585-A302-218D6986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41D5-67A1-4FBA-AF6B-7114B1E6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2069-48DC-4361-8F20-318EC3E9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C017-1B0B-43D9-A3B3-10A3D9CB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25E3-9A6A-472F-BB89-4186891C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BC14-FBFE-4EAE-9CBC-F73C1A75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9CED7-EB42-4D74-9A28-70DD9952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AC9D-D81A-4479-8CB8-B9578186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53B2-455D-4A2A-AE35-ED3C803D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E414-CC43-4E9D-A50A-3323EB48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2B55-8792-422E-A8F2-ACA17422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9E45-3EC1-40E8-B509-53945057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D9F91-F479-4785-87CB-FAAD1A65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BAE42-E634-4283-8B25-0263045A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CFDCE-2385-426A-9A9C-5A79F364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126ED-3FB4-4FC8-991D-BA329191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57FDE-F864-4B86-9389-A6DE61BB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F1FE0-2575-4B90-A010-7C8665A3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5F9AC-E87A-4948-B5CD-10C2E7C0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D5AB-9818-4782-8D03-139406D244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8685-A1E7-48B5-89D8-53854613E3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184464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alibri"/>
              </a:rPr>
              <a:t>OPERATIVIDAD DE LOS PLANES MUNICIPALES DE EMERGENCIA NUCLEAR: POSIBLES LINEAS DE MEJO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39640" y="3645000"/>
            <a:ext cx="842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ill Sans MT"/>
              </a:rPr>
              <a:t>JORNADA TÉCNICA SOBRE PLANES MUNICIPALES DE EMERGENCIA NUCLEAR PARA AUTORIDADES MUNICIPALES DE ZONA I DE LOS PEN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02" name="Picture 156" descr="Imagen anagrama map"/>
          <p:cNvPicPr/>
          <p:nvPr/>
        </p:nvPicPr>
        <p:blipFill>
          <a:blip r:embed="rId1"/>
          <a:stretch/>
        </p:blipFill>
        <p:spPr>
          <a:xfrm>
            <a:off x="179280" y="260280"/>
            <a:ext cx="2667240" cy="460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9"/>
          <p:cNvSpPr/>
          <p:nvPr/>
        </p:nvSpPr>
        <p:spPr>
          <a:xfrm>
            <a:off x="6454080" y="609300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9 de octubre de 2015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5" name="Line 3"/>
          <p:cNvSpPr/>
          <p:nvPr/>
        </p:nvSpPr>
        <p:spPr>
          <a:xfrm>
            <a:off x="3276720" y="3429000"/>
            <a:ext cx="2519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6" name="7 CuadroTexto"/>
          <p:cNvSpPr/>
          <p:nvPr/>
        </p:nvSpPr>
        <p:spPr>
          <a:xfrm>
            <a:off x="971640" y="4653000"/>
            <a:ext cx="729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Carlos Dueñas Molina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ubdirector General de Prevención y Planificación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Dirección General de Protección Civil y Emergencias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inisterio del Interior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2. DISTRIBUCIÓN DE COMPRIMIDOS DE YODURO POTÁSICO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0" y="1197000"/>
            <a:ext cx="9299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Distribución previa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de las dosis necesarias de yoduro potásico a la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oblación residente en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zona I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, mediante las oficinas de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farmacia locale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e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intervención de los médicos de familia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, a los centros educativos, a lo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entros de salud y hospitales, y a otros lugares de pública concurrenci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ara los que la predistribución se considere adecuada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Información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directa a la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oblación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acerca de la profilaxis radiológica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n yoduro potásico, con participación de los farmacéuticos locales,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médicos de familia y otro personal sanitario, e información general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mediante programas periódicos, participación social y apoyo de medio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de comunicación  locale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Inclusión en cada PPE de un Programa sobre Profilaxis Radiológica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3. ACTIVIDADES DE APOYO AL CONFINAMIENTO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80720" y="1125360"/>
            <a:ext cx="9049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Inclusión en el PEN de un Estudio de Vulnerabilidad  y Actuacione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de Emergencia en Redes de Suministro de Agua a Poblacione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Información previa a la población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(disponibilidad de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receptores de Radio y TV para información e instrucciones)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Criterios para la toma de decisiones sobre confinamiento de l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población en situaciones de emergencia: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Como medida previa para ordenar la evacuación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En aquellos accidentes con tiempo estimado de emisión no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superior a diez hora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- En general el confinamiento no se prolongará por un tiempo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superior a 24 hora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4. ACTIVIDADES DE APOYO A LA EVACUACIÓ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0" y="1268280"/>
            <a:ext cx="91440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Cada PEN incluirá un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lan de Evacuación de la Zona I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, mediante el cual se asegure, al menos, la evacuación de los centros de enseñanza, centros hospitalarios, residencias de personas de movilidad reducida y de todas aquellas personas que no dispongan de medios propios para la evacuación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La actividad de apoyo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a la evacuación por parte cada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organización municipal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quedará recogida en el correspondiente Plan de Evacuación, y estará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de acuerdo con sus  posibilidades y capacidades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Información a la población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 de la población en relación con el planeamiento de la medida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REFORZAMIENTO DE LA CANTIDAD, CALIDAD Y ORGANIZACIÓN DE LOS RECURSOS HUMANO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0880" y="1052640"/>
            <a:ext cx="91432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1. Incremento de la cantidad de personal encuadrado en las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organizaciones municipales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2. Formación del personal de las organizaciones municipales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86064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3. Mejora de la organización de los recursos humanos adscritos al PAMEN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1. INCREMENTO DE LA CANTIDAD DE PERSONAL ENCUADRADO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EN LAS ORGANIZACIONES MUNICIPAL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53000" y="1011240"/>
            <a:ext cx="8879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Cuantificar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la dotación de recursos humanos necesarios para cad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una de las tareas asignadas al PAMEN, mediante la realización de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simulacros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en las condiciones más “reales” posible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omentar la participación (colaboración) social en el refuerzo de l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rganización del PAMEN, mediante la creación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de Agrupacione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Municipales de Voluntarios de Protección Civil (para el apoyo a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los PAMEN) u otras formas asociativas de participación social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2. FORMACIÓN DEL PERSONAL DE LAS ORGANIZACIONES MUNICIPAL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-39240" y="981000"/>
            <a:ext cx="92545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Evaluar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anualmente las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necesidades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formativas de cada organizació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municipal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Las necesidades formativas de cada organización municipal se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Incorporará al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rograma Anual de Formación de cada PEN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, elaborado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de forma participativ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Registro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del Personal adscrito al Plan Exterior correspondiente, en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ada Subdelegación del Gobierno, que haya realizado actividade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ormativas en el marco del Programa de Formación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, incluyendo lo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actuantes municipales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, reseñando las actividades formativas en que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ubieran participado y fecha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Determinadas actividades formativas han de ser obligatoria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(particularmente las que tienen que ver con la propia seguridad)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3. MEJORA DE LA ORGANIZACIÓN DE LOS RECURSOS HUMANO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0" y="85572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Revisar la organización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de cada PAMEN de acuerdo con la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ctividades que está previsto desarrollar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segurar la rápida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incorporación, en caso de emergencia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, de todos los miembros del comité ejecutivo del PAMEN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acer efectiva en todos los casos, la disposición del PLABEN según la cual “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el personal adscrito al PAMEN será previamente designado y acreditado por su director (el alcalde)”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rever, en la organización de cada PAMEN, las figuras de un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responsable de “participación social” y un responsable de formación del personal adscrito a la organización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ADECUACIÓN DE LOS RECURSOS MATERIAL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-144360" y="1214280"/>
            <a:ext cx="9394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Adecuar </a:t>
            </a: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los procedimientos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del sistema  de </a:t>
            </a: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mantenimiento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de </a:t>
            </a: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gestión centralizada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para una repuesta más ágil y eficaz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Fundamentar las solicitudes de subvención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de  recursos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materiales para cada PAMEN exclusivamente </a:t>
            </a: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en su utilidad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para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la puesta en práctica de las </a:t>
            </a: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actividades previstas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en el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mismo (incluidas las de preparación) , dentro de las norma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a que obliga la propia naturaleza de la subvención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Reconsiderar la provisión de determinados recursos para su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provisión por el nivel central (ECD’s portátiles, por ejemplo)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ROCEDIMIENTOS DE ELABORACIÓN, APROBACIÓN, DIFUSIÓN Y UTILIZACIÓN DEL PAME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-1800" y="855720"/>
            <a:ext cx="9228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Participación social en la elaboración de los PAMEN , mediante 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establecimiento, al menos, de un proceso de información pública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previo a su aprobación 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(Ley 17/2015 del sistema nacional de protecció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cvil)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Inclusión en el” </a:t>
            </a: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Programa anual de información preventiva a l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población” del correspondiente PEN, 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 las medidas adecuadas para l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difusión pública del plan una vez esté aprobado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Puesta a prueba del PAMEN, mediante el establecimiento de u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“</a:t>
            </a: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Programa de ejercicios y simulacros”, 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definido y puesto en práctic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con participación social, dentro del Programa anual que con el mismo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objetivo se establezca en el PEN correspondiente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Informatización del PAMEN para facilitar su operatividad en caso de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Emergencia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Acentuar el papel de las organizaciones municipales en las actuaciones de preparación e implantación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, fundamentalmente en las dirigidas a facilitar la participación de la población (programas de información a la población y realización de ejercicios y simulacros) y establecer cauces apropiados a dicha finalida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Simplificar las actividades operativas en situaciones de emergencia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, ahora responsabilidad de las organizaciones municipales,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mediante cambios en el desempeño de las mismas y/o reforzando la organización y recursos procedentes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del nivel central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(UME, principalmente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Facilitar el desempeño del apoyo a la profilaxis radiológica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, mediante la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predistribución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de comprimidos de yoduro potásico a través de las oficinas de farmacia locales y la difusión de la correspondiente información sanitari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forzar el papel de apoyo de las organizaciones municipales a los planes de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autoprotección de los centros de enseñanza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, teniendo en cuenta la mayor vulnerabilidad de niños y jóven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Considerar el papel de las organizaciones municipales  en la puesta en práctica de medidas dirigidas a facilitar la normalización de la vida socioeconómica de las áreas afectada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627280" y="18900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LINEAS DE MEJORA (SÍNTESIS)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-615960" y="1125360"/>
            <a:ext cx="102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ill Sans MT"/>
              </a:rPr>
              <a:t>(Plan Básico de Emergencia Nuclear  aprobado por el Real Decreto 1546/2004, de 25 de junio)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95280" y="16048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ill Sans MT"/>
              </a:rPr>
              <a:t>Funciones de los PAMEN en situaciones de emergenci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50920" y="2276640"/>
            <a:ext cx="8893080" cy="42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lertar, informar y dar avisos a la población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laborar con los servicios de los grupos operativos en la aplicación de las medidas de protección a la población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acilitar el confinamiento y el abastecimiento a la población confinada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acilitar la evacuación de la población, en caso necesario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ransmitir, recibir y registrar las comunicaciones durante la emergencia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468360" y="18900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ACTUACIONES DE LAS ORGANIZACIONES DE LOS PAME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escudo"/>
          <p:cNvPicPr/>
          <p:nvPr/>
        </p:nvPicPr>
        <p:blipFill>
          <a:blip r:embed="rId1"/>
          <a:stretch/>
        </p:blipFill>
        <p:spPr>
          <a:xfrm>
            <a:off x="3564000" y="1916280"/>
            <a:ext cx="1720800" cy="24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RESPONSABILIDADES DEL DIRECTOR DEL PAME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50920" y="907920"/>
            <a:ext cx="8893080" cy="72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Dirigir y coordinar el PAMEN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tivar el PAMEN y declarar la situación que corresponda, de acuerdo con la órdenes del director del PEN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plicar las órdenes del director del PEN, en contacto con el jefe del grupo de coordinación y asistencia técnica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egurar el correcto funcionamiento del CECOPAL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Mantener permanentemente informada a la población y sobre el comportamiento a adoptar, de acuerdo con las directrices del director del PEN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Dar servicio de información a familiares de afectados, en coordinación con el gabinete de información y comunicación del PEN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acilitar la evacuación, teniendo en cuenta las singularidades de los centros de pública concurrencia como colegios, centros sanitarios etc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acilitar el transporte, albergue y abastecimiento a la población que lo precise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olicitar apoyo a la dirección del PEN, en caso de que se sobrepasen las capacidades del PAMEN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78920" y="105264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60240" indent="-6602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alibri"/>
              </a:rPr>
              <a:t>En situaciones de normalida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(actividades de preparació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) Facilitar la puesta en práctica de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rogramas de información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previa, de carácter preventivo a la població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b) Procurar la adecuada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formación del personal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integrado en la organización del PAME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)  Realizar ejercicios y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simulacros periódicos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que permitan mejorar la instrucción del personal adscrito a la organización del PAMEN, comprobar la idoneidad y el estado funcional de los medios a disposición para emergencias,  verificar el grado de operatividad del plan  y derivar de todo ello las medidas de mejor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d)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Fomentar y facilitar la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articipación ciudadana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en las actividades anteriormente enunciada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68360" y="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ACTUACIONES DE LAS ORGANIZACIONES DE LOS PAME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1052640"/>
            <a:ext cx="896472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Los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AMEN son parte integrante de la organización general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de la respuesta ante emergencias derivadas de accidentes en centrales nucleare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La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articipación ciudadana es un factor fundamental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condicionante de la eficacia y eficiencia de las actividades previstas en los PAMEN 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CONSIDERACIONES BÁSICA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3492360" y="2565360"/>
            <a:ext cx="1454400" cy="698400"/>
          </a:xfrm>
          <a:prstGeom prst="ellipse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ENCR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3564000" y="3141720"/>
            <a:ext cx="1454040" cy="698400"/>
          </a:xfrm>
          <a:prstGeom prst="ellipse">
            <a:avLst/>
          </a:prstGeom>
          <a:solidFill>
            <a:srgbClr val="0099cc">
              <a:alpha val="42000"/>
            </a:srgbClr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3564000" y="3716280"/>
            <a:ext cx="1417680" cy="698400"/>
          </a:xfrm>
          <a:prstGeom prst="ellipse">
            <a:avLst/>
          </a:prstGeom>
          <a:solidFill>
            <a:srgbClr val="0099cc">
              <a:alpha val="49000"/>
            </a:srgbClr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AME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Oval 4"/>
          <p:cNvSpPr/>
          <p:nvPr/>
        </p:nvSpPr>
        <p:spPr>
          <a:xfrm>
            <a:off x="1763640" y="3213000"/>
            <a:ext cx="698400" cy="698760"/>
          </a:xfrm>
          <a:prstGeom prst="ellipse">
            <a:avLst/>
          </a:prstGeom>
          <a:solidFill>
            <a:srgbClr val="ff6600">
              <a:alpha val="27000"/>
            </a:srgbClr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EI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2484360" y="3500280"/>
            <a:ext cx="1116000" cy="73080"/>
          </a:xfrm>
          <a:prstGeom prst="leftRightArrow">
            <a:avLst>
              <a:gd name="adj1" fmla="val 50000"/>
              <a:gd name="adj2" fmla="val 304004"/>
            </a:avLst>
          </a:prstGeom>
          <a:solidFill>
            <a:srgbClr val="e5e5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1619280" y="2421000"/>
            <a:ext cx="4608360" cy="2449440"/>
          </a:xfrm>
          <a:prstGeom prst="ellipse">
            <a:avLst/>
          </a:prstGeom>
          <a:solidFill>
            <a:srgbClr val="0099cc">
              <a:alpha val="22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EQUILIBRIO ENTRE ACTIVIDADES Y MEDIO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2771640" y="3068640"/>
            <a:ext cx="432000" cy="20876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3708360" y="2276640"/>
            <a:ext cx="432000" cy="208728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6012000" y="3068640"/>
            <a:ext cx="431640" cy="20876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6877080" y="2133720"/>
            <a:ext cx="431640" cy="208728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2771640" y="2133720"/>
            <a:ext cx="4537080" cy="1079280"/>
          </a:xfrm>
          <a:prstGeom prst="cube">
            <a:avLst>
              <a:gd name="adj" fmla="val 8823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2771640" y="1989000"/>
            <a:ext cx="4537080" cy="1079640"/>
          </a:xfrm>
          <a:prstGeom prst="cube">
            <a:avLst>
              <a:gd name="adj" fmla="val 8823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6" name="AutoShape 10"/>
          <p:cNvSpPr/>
          <p:nvPr/>
        </p:nvSpPr>
        <p:spPr>
          <a:xfrm>
            <a:off x="2771640" y="1844640"/>
            <a:ext cx="4537080" cy="1079640"/>
          </a:xfrm>
          <a:prstGeom prst="cube">
            <a:avLst>
              <a:gd name="adj" fmla="val 8823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2771640" y="1700280"/>
            <a:ext cx="4537080" cy="1079280"/>
          </a:xfrm>
          <a:prstGeom prst="cube">
            <a:avLst>
              <a:gd name="adj" fmla="val 8823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AutoShape 12"/>
          <p:cNvSpPr/>
          <p:nvPr/>
        </p:nvSpPr>
        <p:spPr>
          <a:xfrm>
            <a:off x="2771640" y="1557360"/>
            <a:ext cx="4537080" cy="1079640"/>
          </a:xfrm>
          <a:prstGeom prst="cube">
            <a:avLst>
              <a:gd name="adj" fmla="val 8823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AutoShape 13"/>
          <p:cNvSpPr/>
          <p:nvPr/>
        </p:nvSpPr>
        <p:spPr>
          <a:xfrm>
            <a:off x="2771640" y="1413000"/>
            <a:ext cx="4537080" cy="1079280"/>
          </a:xfrm>
          <a:prstGeom prst="cube">
            <a:avLst>
              <a:gd name="adj" fmla="val 8823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2771640" y="1268280"/>
            <a:ext cx="4537080" cy="1079640"/>
          </a:xfrm>
          <a:prstGeom prst="cube">
            <a:avLst>
              <a:gd name="adj" fmla="val 8823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3999600" y="1413000"/>
            <a:ext cx="21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CTIVIDAD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6443640" y="422100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RECURSOS HUMANO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5364360" y="5283360"/>
            <a:ext cx="27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RECURSOS MATERIALE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3203280" y="429264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ORGANIZACIÓN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1763280" y="5300640"/>
            <a:ext cx="265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PARTICIPACIÓN SOCIA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0" y="1052640"/>
            <a:ext cx="896472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Revisión de las actuaciones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 desarrollar por las organizaciones de los PAMEN, en caso de emergencia y en situaciones de normalidad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decuación de la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cantidad, calidad y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organización de los recursos humanos adscritos al PAMEN.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decuación de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recursos materiales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Estímulo  de la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articipación social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Reconsideración de los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rocedimientos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de elaboración, aprobación, difusión y utilización del PAMEN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LINEAS DE MEJORA DE LA OPERATIVIDAD DE LOS PAME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0" y="1700280"/>
            <a:ext cx="9144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Difusión de alertas y avisos a la población.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Distribución de comprimidos de yoduro potásico.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Actividades de apoyo al confinamiento.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Actividades de apoyo a la evacuación.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REVISIÓN DE LAS ACTIVIDADES A DESARROLLAR POR LOS PAME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1. DIFUSIÓN DE ALERTAS Y AVISOS A LA POBLACIÓ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0" y="836640"/>
            <a:ext cx="9070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Conseguir la </a:t>
            </a: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cobertura total de la zona I, 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mediante</a:t>
            </a: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dotación de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sirenas a los núcleos de población no cubiertos por megafonía, lo que implica: un código de señales acústicas de alerta, información a la población y la realización de simulacros con la frecuencia necesaria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Conseguir una absoluta </a:t>
            </a: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inmediatez en la alerta a la zona I A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mediante la autorización de accionamiento del sistema por el director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del PEI y la transmisión de mensajes vía móvil a los  responsable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municipales. (Ley 17/2015,del sistema nacional de protección civil)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Conseguir la </a:t>
            </a: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participación de medios de comunicación 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(radio y TV), para la difusión de mensales emenados de la dirección del PPE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Desarrollar </a:t>
            </a: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programas de información previa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, de carácter preventivo, </a:t>
            </a: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a la población 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acerca de las medidas a adoptar en cada caso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16:23:55Z</dcterms:created>
  <dc:creator>DGPCyE</dc:creator>
  <dc:description/>
  <dc:language>en-US</dc:language>
  <cp:lastModifiedBy>DGPCyE</cp:lastModifiedBy>
  <dcterms:modified xsi:type="dcterms:W3CDTF">2015-10-18T16:50:45Z</dcterms:modified>
  <cp:revision>38</cp:revision>
  <dc:subject/>
  <dc:title>Diapositiva 1</dc:title>
</cp:coreProperties>
</file>